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light.wav" ContentType="audio/x-wav"/>
  <Override PartName="/ppt/media/image2.png" ContentType="image/png"/>
  <Override PartName="/ppt/media/start-end.wav" ContentType="audio/x-wav"/>
  <Override PartName="/ppt/media/image3.png" ContentType="image/png"/>
  <Override PartName="/ppt/media/wronganswer.wav" ContentType="audio/x-wav"/>
  <Override PartName="/ppt/media/bgmusic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23A-F796-43DF-8A28-3BCB137C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A83-45B4-4905-8391-29D03946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7A6-9582-4A07-AFDB-A15C2A08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312-EB25-439A-ADE1-43468A82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3F2-EC82-4169-A8F3-DBACC693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E69-9684-473B-AD92-187319F8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799-F5AA-450B-B76F-FC3A02D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FCD-6EB7-4A53-A039-15095B6B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745-DACE-47DF-B155-8DBB2CD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5E9-C721-4EFB-AE6F-40E8D82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919-F831-48E7-90AF-31FF65C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78D-39A8-49C9-8FB8-7CFF7C6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7B0-43ED-4593-AF40-2A0EAC6C9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" Target="slide29.xml"/><Relationship Id="rId12" Type="http://schemas.openxmlformats.org/officeDocument/2006/relationships/slide" Target="slide32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41.xml"/><Relationship Id="rId16" Type="http://schemas.openxmlformats.org/officeDocument/2006/relationships/slide" Target="slide44.xml"/><Relationship Id="rId17" Type="http://schemas.openxmlformats.org/officeDocument/2006/relationships/slide" Target="slide1.xml"/><Relationship Id="rId18" Type="http://schemas.openxmlformats.org/officeDocument/2006/relationships/image" Target="../media/image3.png"/><Relationship Id="rId19" Type="http://schemas.openxmlformats.org/officeDocument/2006/relationships/audio" Target="../media/start-end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4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3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9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9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bgmusic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bgmusic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start-e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llionaire money list"/>
          <p:cNvPicPr/>
          <p:nvPr/>
        </p:nvPicPr>
        <p:blipFill>
          <a:blip r:embed="rId1"/>
          <a:stretch/>
        </p:blipFill>
        <p:spPr>
          <a:xfrm>
            <a:off x="5638680" y="1523880"/>
            <a:ext cx="276228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042920" y="6237360"/>
            <a:ext cx="34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5334120" y="60343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9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1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1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1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1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" descr="Millionaire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990720" y="1981080"/>
            <a:ext cx="3395520" cy="33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9" name="start-e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dea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-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04684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6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bohyd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02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ich of these is a nutrient in our foo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6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8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1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187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-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x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i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48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special chemicals help to digest your foo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thought of your experi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4"/>
          <a:stretch/>
        </p:blipFill>
        <p:spPr>
          <a:xfrm>
            <a:off x="-39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Large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mall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294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ere are digested foods absorbed into the bloo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8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0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3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up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1619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13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6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600200" y="4267080"/>
            <a:ext cx="181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332000" y="476280"/>
            <a:ext cx="6624720" cy="1657440"/>
            <a:chOff x="1332000" y="476280"/>
            <a:chExt cx="6624720" cy="1657440"/>
          </a:xfrm>
        </p:grpSpPr>
        <p:sp>
          <p:nvSpPr>
            <p:cNvPr id="64" name="AutoShape 23"/>
            <p:cNvSpPr/>
            <p:nvPr/>
          </p:nvSpPr>
          <p:spPr>
            <a:xfrm>
              <a:off x="1332000" y="476280"/>
              <a:ext cx="6624720" cy="1657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All cells carry out….?</a:t>
              </a:r>
              <a:r>
                <a:rPr b="0" lang="en-US" sz="20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146052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>
              <a:off x="757080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8" name="Line 27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8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0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3" name="Line 32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3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35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8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lti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341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does digestion sta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5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7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0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-684360" y="58053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button"/>
          <p:cNvPicPr/>
          <p:nvPr/>
        </p:nvPicPr>
        <p:blipFill>
          <a:blip r:embed="rId3"/>
          <a:stretch/>
        </p:blipFill>
        <p:spPr>
          <a:xfrm>
            <a:off x="250920" y="6237360"/>
            <a:ext cx="842760" cy="41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inligh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Goudy Stout"/>
              </a:rPr>
              <a:t>So near and yet so f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1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3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6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1600200" y="4267080"/>
            <a:ext cx="21337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Lact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715000" y="4267080"/>
            <a:ext cx="2133720" cy="6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387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starch molecules broken down into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1600200" y="5638680"/>
            <a:ext cx="239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5651640" y="5589720"/>
            <a:ext cx="22320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F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619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28600" y="228600"/>
            <a:ext cx="873612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ip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uc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433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What is the name of the enzyme in saliva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7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9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2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Pep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-46836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50920" y="4005360"/>
            <a:ext cx="8686800" cy="990360"/>
            <a:chOff x="250920" y="4005360"/>
            <a:chExt cx="8686800" cy="990360"/>
          </a:xfrm>
        </p:grpSpPr>
        <p:sp>
          <p:nvSpPr>
            <p:cNvPr id="463" name="Line 5"/>
            <p:cNvSpPr/>
            <p:nvPr/>
          </p:nvSpPr>
          <p:spPr>
            <a:xfrm>
              <a:off x="4442040" y="45021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746600" y="4005360"/>
              <a:ext cx="4191120" cy="990360"/>
              <a:chOff x="4746600" y="4005360"/>
              <a:chExt cx="4191120" cy="990360"/>
            </a:xfrm>
          </p:grpSpPr>
          <p:sp>
            <p:nvSpPr>
              <p:cNvPr id="465" name="Line 7"/>
              <p:cNvSpPr/>
              <p:nvPr/>
            </p:nvSpPr>
            <p:spPr>
              <a:xfrm>
                <a:off x="84805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>
                <a:off x="474660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250920" y="4005360"/>
              <a:ext cx="4191120" cy="990360"/>
              <a:chOff x="250920" y="4005360"/>
              <a:chExt cx="4191120" cy="990360"/>
            </a:xfrm>
          </p:grpSpPr>
          <p:sp>
            <p:nvSpPr>
              <p:cNvPr id="468" name="Line 10"/>
              <p:cNvSpPr/>
              <p:nvPr/>
            </p:nvSpPr>
            <p:spPr>
              <a:xfrm flipH="1">
                <a:off x="2509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11"/>
              <p:cNvSpPr/>
              <p:nvPr/>
            </p:nvSpPr>
            <p:spPr>
              <a:xfrm flipH="1">
                <a:off x="70812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iges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5715000" y="426708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479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name do we give to the process of making energy in our body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3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5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8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600200" y="5638680"/>
            <a:ext cx="24382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1619280" y="4292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1692360" y="5661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1692360" y="566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5508720" y="5661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1116000" y="5084640"/>
            <a:ext cx="942840" cy="943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979640" y="71010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fortunatel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1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1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28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at raw materials does the body need to make energy by respira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3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3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lucose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540360" y="3141720"/>
            <a:ext cx="7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400" spc="-1" strike="noStrike">
              <a:solidFill>
                <a:srgbClr val="00cc99"/>
              </a:solidFill>
              <a:latin typeface="Goudy Stout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41440" y="55897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’m 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9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61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75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How is glucose transported around the bod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9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81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84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got tha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4"/>
          <a:stretch/>
        </p:blipFill>
        <p:spPr>
          <a:xfrm>
            <a:off x="-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0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1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ex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621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</a:rPr>
                <a:t>Respiration can be compared with…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625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627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630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brea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1692360" y="717408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5414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msa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060640"/>
            <a:ext cx="19666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Wrong Choic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4"/>
          <a:stretch/>
        </p:blipFill>
        <p:spPr>
          <a:xfrm>
            <a:off x="-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304920" y="4038480"/>
            <a:ext cx="8686800" cy="990360"/>
            <a:chOff x="304920" y="4038480"/>
            <a:chExt cx="8686800" cy="990360"/>
          </a:xfrm>
        </p:grpSpPr>
        <p:sp>
          <p:nvSpPr>
            <p:cNvPr id="651" name="Line 5"/>
            <p:cNvSpPr/>
            <p:nvPr/>
          </p:nvSpPr>
          <p:spPr>
            <a:xfrm>
              <a:off x="4496040" y="4535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800600" y="4038480"/>
              <a:ext cx="4191120" cy="990360"/>
              <a:chOff x="4800600" y="4038480"/>
              <a:chExt cx="4191120" cy="990360"/>
            </a:xfrm>
          </p:grpSpPr>
          <p:sp>
            <p:nvSpPr>
              <p:cNvPr id="653" name="Line 7"/>
              <p:cNvSpPr/>
              <p:nvPr/>
            </p:nvSpPr>
            <p:spPr>
              <a:xfrm>
                <a:off x="85345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480060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9"/>
            <p:cNvGrpSpPr/>
            <p:nvPr/>
          </p:nvGrpSpPr>
          <p:grpSpPr>
            <a:xfrm>
              <a:off x="304920" y="4038480"/>
              <a:ext cx="4191120" cy="990360"/>
              <a:chOff x="304920" y="4038480"/>
              <a:chExt cx="4191120" cy="990360"/>
            </a:xfrm>
          </p:grpSpPr>
          <p:sp>
            <p:nvSpPr>
              <p:cNvPr id="656" name="Line 10"/>
              <p:cNvSpPr/>
              <p:nvPr/>
            </p:nvSpPr>
            <p:spPr>
              <a:xfrm flipH="1">
                <a:off x="3049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11"/>
              <p:cNvSpPr/>
              <p:nvPr/>
            </p:nvSpPr>
            <p:spPr>
              <a:xfrm flipH="1">
                <a:off x="76212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Oxygen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715000" y="4267080"/>
            <a:ext cx="2133720" cy="84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Water, hydrogen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667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the 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products </a:t>
              </a: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of respiration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7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1600200" y="5638680"/>
            <a:ext cx="24382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arbon dioxide,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, enzymes and 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bgmusic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1763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70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AutoShape 12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685800" y="609480"/>
            <a:ext cx="7846920" cy="1143000"/>
            <a:chOff x="685800" y="609480"/>
            <a:chExt cx="7846920" cy="1143000"/>
          </a:xfrm>
        </p:grpSpPr>
        <p:sp>
          <p:nvSpPr>
            <p:cNvPr id="712" name="AutoShape 21"/>
            <p:cNvSpPr/>
            <p:nvPr/>
          </p:nvSpPr>
          <p:spPr>
            <a:xfrm>
              <a:off x="685800" y="609480"/>
              <a:ext cx="7846920" cy="11430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 1,00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The equation for respiration i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opposite equation of which other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22"/>
            <p:cNvSpPr/>
            <p:nvPr/>
          </p:nvSpPr>
          <p:spPr>
            <a:xfrm>
              <a:off x="837720" y="1117440"/>
              <a:ext cx="30456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23"/>
            <p:cNvSpPr/>
            <p:nvPr/>
          </p:nvSpPr>
          <p:spPr>
            <a:xfrm>
              <a:off x="8075520" y="1117440"/>
              <a:ext cx="30420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716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718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721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1692360" y="551664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5715000" y="5638680"/>
            <a:ext cx="2133720" cy="31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3"/>
          <p:cNvSpPr/>
          <p:nvPr/>
        </p:nvSpPr>
        <p:spPr>
          <a:xfrm>
            <a:off x="5724360" y="566100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5796000" y="4149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bgmusic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258920" y="724536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were nearly a million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3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tart-end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751760" y="83664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1" descr="Millionaire"/>
          <p:cNvPicPr/>
          <p:nvPr/>
        </p:nvPicPr>
        <p:blipFill>
          <a:blip r:embed="rId2"/>
          <a:stretch/>
        </p:blipFill>
        <p:spPr>
          <a:xfrm>
            <a:off x="2843280" y="1773360"/>
            <a:ext cx="33955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start-e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26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4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9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84360" y="620640"/>
            <a:ext cx="7702560" cy="1306440"/>
            <a:chOff x="684360" y="620640"/>
            <a:chExt cx="7702560" cy="1306440"/>
          </a:xfrm>
        </p:grpSpPr>
        <p:sp>
          <p:nvSpPr>
            <p:cNvPr id="110" name="AutoShape 21"/>
            <p:cNvSpPr/>
            <p:nvPr/>
          </p:nvSpPr>
          <p:spPr>
            <a:xfrm>
              <a:off x="684360" y="620640"/>
              <a:ext cx="7702560" cy="1306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the name of the USEFUL gas humans breathe i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2"/>
            <p:cNvSpPr/>
            <p:nvPr/>
          </p:nvSpPr>
          <p:spPr>
            <a:xfrm>
              <a:off x="833760" y="1201320"/>
              <a:ext cx="29916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>
              <a:off x="7938000" y="1201320"/>
              <a:ext cx="29880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4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6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9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-76320" y="4724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220500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-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75920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0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2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5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indpi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24360" y="429264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Trach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156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another name for the foodpip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0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2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5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allopian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187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LHS</dc:creator>
  <dc:description/>
  <dc:language>en-US</dc:language>
  <cp:lastModifiedBy>Beata</cp:lastModifiedBy>
  <cp:lastPrinted>2000-05-03T23:45:17Z</cp:lastPrinted>
  <dcterms:modified xsi:type="dcterms:W3CDTF">2014-06-29T18:33:03Z</dcterms:modified>
  <cp:revision>226</cp:revision>
  <dc:subject/>
  <dc:title>LHS - Millionario</dc:title>
</cp:coreProperties>
</file>